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A648-9C2B-4213-95F6-80BE50954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2282-FD43-44C4-9CDB-B635176A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E767-927F-4627-B9DA-83130532D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0FED-A7AE-4C99-A05E-E6DC8AF2A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D339-26F3-4DDA-B447-BE71A0F2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3344-CE80-422A-8645-859B74C0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7B6A-E741-4992-A54C-43A6B917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ECBF-0B2E-4F92-8BAB-377D8021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0A7F-5330-4896-9A6B-17540A4B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12DA-E314-4EAF-88D2-E0CBFFCF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1238-8B30-4A39-A85C-0DCD63D8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00B1-D199-462F-8746-510E879D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1FA8-2F33-42CB-BBB8-CDE80F816306}" type="slidenum"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견고한진"/>
          <p:cNvPicPr/>
          <p:nvPr/>
        </p:nvPicPr>
        <p:blipFill>
          <a:blip r:embed="rId1"/>
          <a:stretch/>
        </p:blipFill>
        <p:spPr>
          <a:xfrm>
            <a:off x="1116000" y="0"/>
            <a:ext cx="7201080" cy="6899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6585480" y="6566040"/>
            <a:ext cx="2159280" cy="2764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셀교재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3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권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실천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’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p126,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랄프 네이버 저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40"/>
          <p:cNvGrpSpPr/>
          <p:nvPr/>
        </p:nvGrpSpPr>
        <p:grpSpPr>
          <a:xfrm>
            <a:off x="1300320" y="1643040"/>
            <a:ext cx="5285520" cy="4785480"/>
            <a:chOff x="1300320" y="1643040"/>
            <a:chExt cx="5285520" cy="4785480"/>
          </a:xfrm>
        </p:grpSpPr>
        <p:grpSp>
          <p:nvGrpSpPr>
            <p:cNvPr id="44" name="Group 39"/>
            <p:cNvGrpSpPr/>
            <p:nvPr/>
          </p:nvGrpSpPr>
          <p:grpSpPr>
            <a:xfrm>
              <a:off x="1300320" y="1643040"/>
              <a:ext cx="5285520" cy="4785480"/>
              <a:chOff x="1300320" y="1643040"/>
              <a:chExt cx="5285520" cy="4785480"/>
            </a:xfrm>
          </p:grpSpPr>
          <p:sp>
            <p:nvSpPr>
              <p:cNvPr id="45" name="Oval 4"/>
              <p:cNvSpPr/>
              <p:nvPr/>
            </p:nvSpPr>
            <p:spPr>
              <a:xfrm>
                <a:off x="1300320" y="1643040"/>
                <a:ext cx="5285520" cy="478548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  <p:grpSp>
            <p:nvGrpSpPr>
              <p:cNvPr id="46" name="Group 38"/>
              <p:cNvGrpSpPr/>
              <p:nvPr/>
            </p:nvGrpSpPr>
            <p:grpSpPr>
              <a:xfrm>
                <a:off x="1910160" y="1927440"/>
                <a:ext cx="4291200" cy="3833640"/>
                <a:chOff x="1910160" y="1927440"/>
                <a:chExt cx="4291200" cy="3833640"/>
              </a:xfrm>
            </p:grpSpPr>
            <p:grpSp>
              <p:nvGrpSpPr>
                <p:cNvPr id="47" name="Group 37"/>
                <p:cNvGrpSpPr/>
                <p:nvPr/>
              </p:nvGrpSpPr>
              <p:grpSpPr>
                <a:xfrm>
                  <a:off x="1910160" y="2429640"/>
                  <a:ext cx="4291200" cy="3331440"/>
                  <a:chOff x="1910160" y="2429640"/>
                  <a:chExt cx="4291200" cy="3331440"/>
                </a:xfrm>
              </p:grpSpPr>
              <p:sp>
                <p:nvSpPr>
                  <p:cNvPr id="48" name="Text Box 25"/>
                  <p:cNvSpPr/>
                  <p:nvPr/>
                </p:nvSpPr>
                <p:spPr>
                  <a:xfrm>
                    <a:off x="2421000" y="2429640"/>
                    <a:ext cx="637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HY견고딕"/>
                        <a:ea typeface="HY견고딕"/>
                      </a:rPr>
                      <a:t>두려움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49" name="Text Box 26"/>
                  <p:cNvSpPr/>
                  <p:nvPr/>
                </p:nvSpPr>
                <p:spPr>
                  <a:xfrm>
                    <a:off x="2325960" y="4916880"/>
                    <a:ext cx="637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HY견고딕"/>
                        <a:ea typeface="HY견고딕"/>
                      </a:rPr>
                      <a:t>두려움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0" name="Text Box 27"/>
                  <p:cNvSpPr/>
                  <p:nvPr/>
                </p:nvSpPr>
                <p:spPr>
                  <a:xfrm>
                    <a:off x="5011920" y="2524320"/>
                    <a:ext cx="637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HY견고딕"/>
                        <a:ea typeface="HY견고딕"/>
                      </a:rPr>
                      <a:t>두려움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1" name="Text Box 28"/>
                  <p:cNvSpPr/>
                  <p:nvPr/>
                </p:nvSpPr>
                <p:spPr>
                  <a:xfrm>
                    <a:off x="5204520" y="4725000"/>
                    <a:ext cx="637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HY견고딕"/>
                        <a:ea typeface="HY견고딕"/>
                      </a:rPr>
                      <a:t>두려움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2" name="Text Box 29"/>
                  <p:cNvSpPr/>
                  <p:nvPr/>
                </p:nvSpPr>
                <p:spPr>
                  <a:xfrm>
                    <a:off x="1910160" y="3363840"/>
                    <a:ext cx="546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400" spc="-1" strike="noStrike">
                        <a:solidFill>
                          <a:srgbClr val="7030a0"/>
                        </a:solidFill>
                        <a:latin typeface="HY견고딕"/>
                        <a:ea typeface="HY견고딕"/>
                      </a:rPr>
                      <a:t>생각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3" name="Text Box 30"/>
                  <p:cNvSpPr/>
                  <p:nvPr/>
                </p:nvSpPr>
                <p:spPr>
                  <a:xfrm>
                    <a:off x="5654880" y="3363840"/>
                    <a:ext cx="546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400" spc="-1" strike="noStrike">
                        <a:solidFill>
                          <a:srgbClr val="7030a0"/>
                        </a:solidFill>
                        <a:latin typeface="HY견고딕"/>
                        <a:ea typeface="HY견고딕"/>
                      </a:rPr>
                      <a:t>의지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4" name="Text Box 31"/>
                  <p:cNvSpPr/>
                  <p:nvPr/>
                </p:nvSpPr>
                <p:spPr>
                  <a:xfrm>
                    <a:off x="3636360" y="5301360"/>
                    <a:ext cx="546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400" spc="-1" strike="noStrike">
                        <a:solidFill>
                          <a:srgbClr val="7030a0"/>
                        </a:solidFill>
                        <a:latin typeface="HY견고딕"/>
                        <a:ea typeface="HY견고딕"/>
                      </a:rPr>
                      <a:t>감정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</p:grpSp>
            <p:sp>
              <p:nvSpPr>
                <p:cNvPr id="55" name="Text Box 19"/>
                <p:cNvSpPr/>
                <p:nvPr/>
              </p:nvSpPr>
              <p:spPr>
                <a:xfrm>
                  <a:off x="4007520" y="1927440"/>
                  <a:ext cx="363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0070c0"/>
                      </a:solidFill>
                      <a:latin typeface="HY견고딕"/>
                      <a:ea typeface="HY견고딕"/>
                    </a:rPr>
                    <a:t>혼</a:t>
                  </a:r>
                  <a:endParaRPr b="0" lang="en-US" sz="2400" spc="-1" strike="noStrike">
                    <a:solidFill>
                      <a:srgbClr val="000000"/>
                    </a:solidFill>
                    <a:latin typeface="돋움"/>
                  </a:endParaRPr>
                </a:p>
              </p:txBody>
            </p:sp>
          </p:grpSp>
        </p:grpSp>
        <p:grpSp>
          <p:nvGrpSpPr>
            <p:cNvPr id="56" name="Group 36"/>
            <p:cNvGrpSpPr/>
            <p:nvPr/>
          </p:nvGrpSpPr>
          <p:grpSpPr>
            <a:xfrm>
              <a:off x="2933640" y="3134880"/>
              <a:ext cx="2018520" cy="1818360"/>
              <a:chOff x="2933640" y="3134880"/>
              <a:chExt cx="2018520" cy="1818360"/>
            </a:xfrm>
          </p:grpSpPr>
          <p:sp>
            <p:nvSpPr>
              <p:cNvPr id="57" name="Oval 17"/>
              <p:cNvSpPr/>
              <p:nvPr/>
            </p:nvSpPr>
            <p:spPr>
              <a:xfrm>
                <a:off x="2933640" y="3134880"/>
                <a:ext cx="2018520" cy="1818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  <p:sp>
            <p:nvSpPr>
              <p:cNvPr id="58" name="AutoShape 33"/>
              <p:cNvSpPr/>
              <p:nvPr/>
            </p:nvSpPr>
            <p:spPr>
              <a:xfrm>
                <a:off x="3126240" y="3134880"/>
                <a:ext cx="1633320" cy="1818360"/>
              </a:xfrm>
              <a:custGeom>
                <a:avLst/>
                <a:gdLst>
                  <a:gd name="textAreaLeft" fmla="*/ 372600 w 1633320"/>
                  <a:gd name="textAreaRight" fmla="*/ 1260720 w 1633320"/>
                  <a:gd name="textAreaTop" fmla="*/ 415080 h 1818360"/>
                  <a:gd name="textAreaBottom" fmla="*/ 1403280 h 181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62" y="11812"/>
                    </a:lnTo>
                    <a:lnTo>
                      <a:pt x="368" y="13595"/>
                    </a:lnTo>
                    <a:lnTo>
                      <a:pt x="3104" y="13909"/>
                    </a:lnTo>
                    <a:lnTo>
                      <a:pt x="1447" y="16200"/>
                    </a:lnTo>
                    <a:lnTo>
                      <a:pt x="4171" y="15795"/>
                    </a:lnTo>
                    <a:lnTo>
                      <a:pt x="3163" y="18437"/>
                    </a:lnTo>
                    <a:lnTo>
                      <a:pt x="5690" y="17340"/>
                    </a:lnTo>
                    <a:lnTo>
                      <a:pt x="5400" y="20153"/>
                    </a:lnTo>
                    <a:lnTo>
                      <a:pt x="7557" y="18440"/>
                    </a:lnTo>
                    <a:lnTo>
                      <a:pt x="8005" y="21232"/>
                    </a:lnTo>
                    <a:lnTo>
                      <a:pt x="9645" y="19019"/>
                    </a:lnTo>
                    <a:lnTo>
                      <a:pt x="10800" y="21600"/>
                    </a:lnTo>
                    <a:lnTo>
                      <a:pt x="11812" y="19038"/>
                    </a:lnTo>
                    <a:lnTo>
                      <a:pt x="13595" y="21232"/>
                    </a:lnTo>
                    <a:lnTo>
                      <a:pt x="13909" y="18496"/>
                    </a:lnTo>
                    <a:lnTo>
                      <a:pt x="16200" y="20153"/>
                    </a:lnTo>
                    <a:lnTo>
                      <a:pt x="15795" y="17429"/>
                    </a:lnTo>
                    <a:lnTo>
                      <a:pt x="18437" y="18437"/>
                    </a:lnTo>
                    <a:lnTo>
                      <a:pt x="17340" y="15910"/>
                    </a:lnTo>
                    <a:lnTo>
                      <a:pt x="20153" y="16200"/>
                    </a:lnTo>
                    <a:lnTo>
                      <a:pt x="18440" y="14043"/>
                    </a:lnTo>
                    <a:lnTo>
                      <a:pt x="21232" y="13595"/>
                    </a:lnTo>
                    <a:lnTo>
                      <a:pt x="19019" y="11955"/>
                    </a:lnTo>
                    <a:lnTo>
                      <a:pt x="21600" y="10800"/>
                    </a:lnTo>
                    <a:lnTo>
                      <a:pt x="19038" y="9788"/>
                    </a:lnTo>
                    <a:lnTo>
                      <a:pt x="21232" y="8005"/>
                    </a:lnTo>
                    <a:lnTo>
                      <a:pt x="18496" y="7691"/>
                    </a:lnTo>
                    <a:lnTo>
                      <a:pt x="20153" y="5400"/>
                    </a:lnTo>
                    <a:lnTo>
                      <a:pt x="17429" y="5805"/>
                    </a:lnTo>
                    <a:lnTo>
                      <a:pt x="18437" y="3163"/>
                    </a:lnTo>
                    <a:lnTo>
                      <a:pt x="15910" y="4260"/>
                    </a:lnTo>
                    <a:lnTo>
                      <a:pt x="16200" y="1447"/>
                    </a:lnTo>
                    <a:lnTo>
                      <a:pt x="14043" y="3160"/>
                    </a:lnTo>
                    <a:lnTo>
                      <a:pt x="13595" y="368"/>
                    </a:lnTo>
                    <a:lnTo>
                      <a:pt x="11955" y="2581"/>
                    </a:lnTo>
                    <a:lnTo>
                      <a:pt x="10800" y="0"/>
                    </a:lnTo>
                    <a:lnTo>
                      <a:pt x="9788" y="2562"/>
                    </a:lnTo>
                    <a:lnTo>
                      <a:pt x="8005" y="368"/>
                    </a:lnTo>
                    <a:lnTo>
                      <a:pt x="7691" y="3104"/>
                    </a:lnTo>
                    <a:lnTo>
                      <a:pt x="5400" y="1447"/>
                    </a:lnTo>
                    <a:lnTo>
                      <a:pt x="5805" y="4171"/>
                    </a:lnTo>
                    <a:lnTo>
                      <a:pt x="3163" y="3163"/>
                    </a:lnTo>
                    <a:lnTo>
                      <a:pt x="4260" y="5690"/>
                    </a:lnTo>
                    <a:lnTo>
                      <a:pt x="1447" y="5400"/>
                    </a:lnTo>
                    <a:lnTo>
                      <a:pt x="3160" y="7557"/>
                    </a:lnTo>
                    <a:lnTo>
                      <a:pt x="368" y="8005"/>
                    </a:lnTo>
                    <a:lnTo>
                      <a:pt x="2581" y="9645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영</a:t>
                </a:r>
                <a:endParaRPr b="0" lang="en-US" sz="2400" spc="-1" strike="noStrike">
                  <a:solidFill>
                    <a:srgbClr val="000000"/>
                  </a:solidFill>
                  <a:latin typeface="돋움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돋움"/>
                  </a:rPr>
                  <a:t>(</a:t>
                </a:r>
                <a:r>
                  <a:rPr b="1" lang="ko-KR" sz="1600" spc="-1" strike="noStrike">
                    <a:solidFill>
                      <a:srgbClr val="ffffff"/>
                    </a:solidFill>
                    <a:latin typeface="돋움"/>
                  </a:rPr>
                  <a:t>속사람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돋움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돋움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500" spc="-1" strike="noStrike">
                    <a:solidFill>
                      <a:srgbClr val="ffffff"/>
                    </a:solidFill>
                    <a:latin typeface="돋움"/>
                  </a:rPr>
                  <a:t>자랑 권세</a:t>
                </a:r>
                <a:endParaRPr b="0" lang="en-US" sz="1500" spc="-1" strike="noStrike">
                  <a:solidFill>
                    <a:srgbClr val="000000"/>
                  </a:solidFill>
                  <a:latin typeface="돋움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500" spc="-1" strike="noStrike">
                    <a:solidFill>
                      <a:srgbClr val="ffffff"/>
                    </a:solidFill>
                    <a:latin typeface="돋움"/>
                  </a:rPr>
                  <a:t>유혹 등</a:t>
                </a:r>
                <a:endParaRPr b="0" lang="en-US" sz="15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</p:grpSp>
      </p:grpSp>
      <p:grpSp>
        <p:nvGrpSpPr>
          <p:cNvPr id="59" name="Group 43"/>
          <p:cNvGrpSpPr/>
          <p:nvPr/>
        </p:nvGrpSpPr>
        <p:grpSpPr>
          <a:xfrm>
            <a:off x="2502000" y="44280"/>
            <a:ext cx="2906640" cy="3384720"/>
            <a:chOff x="2502000" y="44280"/>
            <a:chExt cx="2906640" cy="3384720"/>
          </a:xfrm>
        </p:grpSpPr>
        <p:grpSp>
          <p:nvGrpSpPr>
            <p:cNvPr id="60" name="Group 42"/>
            <p:cNvGrpSpPr/>
            <p:nvPr/>
          </p:nvGrpSpPr>
          <p:grpSpPr>
            <a:xfrm>
              <a:off x="2502000" y="44280"/>
              <a:ext cx="2807640" cy="3384720"/>
              <a:chOff x="2502000" y="44280"/>
              <a:chExt cx="2807640" cy="3384720"/>
            </a:xfrm>
          </p:grpSpPr>
          <p:sp>
            <p:nvSpPr>
              <p:cNvPr id="61" name="Oval 21"/>
              <p:cNvSpPr/>
              <p:nvPr/>
            </p:nvSpPr>
            <p:spPr>
              <a:xfrm>
                <a:off x="2502000" y="44280"/>
                <a:ext cx="2807640" cy="64800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굴림"/>
                    <a:ea typeface="굴림"/>
                  </a:rPr>
                  <a:t>두 번째 하늘</a:t>
                </a:r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굴림"/>
                    <a:ea typeface="굴림"/>
                  </a:rPr>
                  <a:t>사탄이 거하는 곳</a:t>
                </a:r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  <p:sp>
            <p:nvSpPr>
              <p:cNvPr id="62" name="Line 23"/>
              <p:cNvSpPr/>
              <p:nvPr/>
            </p:nvSpPr>
            <p:spPr>
              <a:xfrm>
                <a:off x="3943080" y="620640"/>
                <a:ext cx="0" cy="2808360"/>
              </a:xfrm>
              <a:prstGeom prst="line">
                <a:avLst/>
              </a:prstGeom>
              <a:ln w="507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</p:grpSp>
        <p:sp>
          <p:nvSpPr>
            <p:cNvPr id="63" name="Text Box 24"/>
            <p:cNvSpPr/>
            <p:nvPr/>
          </p:nvSpPr>
          <p:spPr>
            <a:xfrm>
              <a:off x="2525760" y="665280"/>
              <a:ext cx="28828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500" spc="-1" strike="noStrike">
                  <a:solidFill>
                    <a:srgbClr val="000000"/>
                  </a:solidFill>
                  <a:latin typeface="돋움"/>
                </a:rPr>
                <a:t>타락한 천사들이 사탄의 명령에 따라 활동함 </a:t>
              </a:r>
              <a:r>
                <a:rPr b="1" lang="en-US" sz="1500" spc="-1" strike="noStrike">
                  <a:solidFill>
                    <a:srgbClr val="000000"/>
                  </a:solidFill>
                  <a:latin typeface="돋움"/>
                </a:rPr>
                <a:t>:</a:t>
              </a:r>
              <a:endParaRPr b="0" lang="en-US" sz="1500" spc="-1" strike="noStrike">
                <a:solidFill>
                  <a:srgbClr val="000000"/>
                </a:solidFill>
                <a:latin typeface="돋움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500" spc="-1" strike="noStrike">
                  <a:solidFill>
                    <a:srgbClr val="000000"/>
                  </a:solidFill>
                  <a:latin typeface="돋움"/>
                </a:rPr>
                <a:t>믿지 않는 사람들이 하나님을 알지 못하도록 만든다</a:t>
              </a:r>
              <a:endParaRPr b="0" lang="en-US" sz="1500" spc="-1" strike="noStrike">
                <a:solidFill>
                  <a:srgbClr val="000000"/>
                </a:solidFill>
                <a:latin typeface="돋움"/>
              </a:endParaRPr>
            </a:p>
          </p:txBody>
        </p:sp>
      </p:grpSp>
      <p:grpSp>
        <p:nvGrpSpPr>
          <p:cNvPr id="64" name="Group 41"/>
          <p:cNvGrpSpPr/>
          <p:nvPr/>
        </p:nvGrpSpPr>
        <p:grpSpPr>
          <a:xfrm>
            <a:off x="871560" y="1214280"/>
            <a:ext cx="6000480" cy="5429160"/>
            <a:chOff x="871560" y="1214280"/>
            <a:chExt cx="6000480" cy="5429160"/>
          </a:xfrm>
        </p:grpSpPr>
        <p:pic>
          <p:nvPicPr>
            <p:cNvPr id="65" name="WordArt 14" descr=""/>
            <p:cNvPicPr/>
            <p:nvPr/>
          </p:nvPicPr>
          <p:blipFill>
            <a:blip r:embed="rId1"/>
            <a:stretch/>
          </p:blipFill>
          <p:spPr>
            <a:xfrm>
              <a:off x="871560" y="1214280"/>
              <a:ext cx="6000480" cy="542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20"/>
            <p:cNvSpPr/>
            <p:nvPr/>
          </p:nvSpPr>
          <p:spPr>
            <a:xfrm>
              <a:off x="3857760" y="1221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70c0"/>
                  </a:solidFill>
                  <a:latin typeface="HY견고딕"/>
                  <a:ea typeface="HY견고딕"/>
                </a:rPr>
                <a:t>몸</a:t>
              </a:r>
              <a:endParaRPr b="0" lang="en-US" sz="2400" spc="-1" strike="noStrike">
                <a:solidFill>
                  <a:srgbClr val="000000"/>
                </a:solidFill>
                <a:latin typeface="돋움"/>
              </a:endParaRPr>
            </a:p>
          </p:txBody>
        </p:sp>
      </p:grpSp>
      <p:sp>
        <p:nvSpPr>
          <p:cNvPr id="67" name="TextBox 26"/>
          <p:cNvSpPr/>
          <p:nvPr/>
        </p:nvSpPr>
        <p:spPr>
          <a:xfrm>
            <a:off x="6474600" y="984240"/>
            <a:ext cx="2426760" cy="106740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셋째하늘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고린도후서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12:2</a:t>
            </a:r>
            <a:endParaRPr b="0" lang="en-US" sz="16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둘째하늘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에베소서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6:12,</a:t>
            </a:r>
            <a:endParaRPr b="0" lang="en-US" sz="16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다니엘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10:12-13</a:t>
            </a:r>
            <a:endParaRPr b="0" lang="en-US" sz="16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첫째하늘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열왕기상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8:35-36</a:t>
            </a:r>
            <a:endParaRPr b="0" lang="en-US" sz="16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68" name="TextBox 27"/>
          <p:cNvSpPr/>
          <p:nvPr/>
        </p:nvSpPr>
        <p:spPr>
          <a:xfrm>
            <a:off x="6389280" y="6566040"/>
            <a:ext cx="2321640" cy="29196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돋움"/>
              </a:rPr>
              <a:t>셀교재</a:t>
            </a:r>
            <a:r>
              <a:rPr b="0" lang="en-US" sz="1300" spc="-1" strike="noStrike">
                <a:solidFill>
                  <a:srgbClr val="000000"/>
                </a:solidFill>
                <a:latin typeface="돋움"/>
              </a:rPr>
              <a:t>3</a:t>
            </a:r>
            <a:r>
              <a:rPr b="0" lang="ko-KR" sz="1300" spc="-1" strike="noStrike">
                <a:solidFill>
                  <a:srgbClr val="000000"/>
                </a:solidFill>
                <a:latin typeface="돋움"/>
              </a:rPr>
              <a:t>권 </a:t>
            </a:r>
            <a:r>
              <a:rPr b="0" lang="en-US" sz="1300" spc="-1" strike="noStrike">
                <a:solidFill>
                  <a:srgbClr val="000000"/>
                </a:solidFill>
                <a:latin typeface="돋움"/>
              </a:rPr>
              <a:t>‘</a:t>
            </a:r>
            <a:r>
              <a:rPr b="0" lang="ko-KR" sz="1300" spc="-1" strike="noStrike">
                <a:solidFill>
                  <a:srgbClr val="000000"/>
                </a:solidFill>
                <a:latin typeface="돋움"/>
              </a:rPr>
              <a:t>실천</a:t>
            </a:r>
            <a:r>
              <a:rPr b="0" lang="en-US" sz="1300" spc="-1" strike="noStrike">
                <a:solidFill>
                  <a:srgbClr val="000000"/>
                </a:solidFill>
                <a:latin typeface="돋움"/>
              </a:rPr>
              <a:t>’ </a:t>
            </a:r>
            <a:r>
              <a:rPr b="0" lang="en-US" sz="1300" spc="-1" strike="noStrike">
                <a:solidFill>
                  <a:srgbClr val="000000"/>
                </a:solidFill>
                <a:latin typeface="돋움"/>
              </a:rPr>
              <a:t>p210, </a:t>
            </a:r>
            <a:r>
              <a:rPr b="0" lang="ko-KR" sz="1300" spc="-1" strike="noStrike">
                <a:solidFill>
                  <a:srgbClr val="000000"/>
                </a:solidFill>
                <a:latin typeface="돋움"/>
              </a:rPr>
              <a:t>랄프 네이버 저</a:t>
            </a:r>
            <a:endParaRPr b="0" lang="en-US" sz="13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0" y="189000"/>
            <a:ext cx="91440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셋째하늘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: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고린도후서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12:2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내가 그리스도 안에 있는 한 사람을 아노니 그는 십사 년 전에 셋째 하늘에 이끌려 간 자라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（그가 몸 안에 있었는지 몸 밖에 있었는지 나는 모르거니와 하나님은 아시느니라）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0" y="333360"/>
            <a:ext cx="91440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둘째 하늘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: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에베소서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6:12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우리의 씨름은 혈과 육에 대한 것이 아니요 정사와 권세와 이 어두움의 세상 주관자들과 하늘에 있는 악의 영들에게 대함이라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0" y="260280"/>
            <a:ext cx="9144000" cy="540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둘째 하늘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: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다니엘 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10:12-13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그가 내게 이르되 다니엘아 두려워하지 말라 네가 깨달으려 하여 네 하나님 앞에 스스로 겸비케 하기로 결심하던 첫날부터 네 말이 들으신바 되었으므로 내가 네 말로 인하여 왔느니라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그런데 바사 국군이 이십 일일 동안 나를 막았으므로 내가 거기 바사국 왕들과 함께 머물러 있더니 군장 중 하나 미가엘이 와서 나를 도와주므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0" y="333360"/>
            <a:ext cx="9144000" cy="540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첫째 하늘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: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열왕기상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8:35-36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만일 저희가 주께 범죄함을 인하여 하늘이 닫히고 비가 없어서 주의 벌을 받을 때에 이곳을 향하여 빌며 주의 이름을 인정하고 그 죄에서 떠나거든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   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주는 하늘에서 들으사 주의 종들과 주의 백성 이스라엘의 죄를 사하시고 그 마땅히 행할 선한 길을 가르쳐 주옵시며 주의 백성에게 기업으로 주신 주의 땅에 비를 내리시옵소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06:05:43Z</dcterms:created>
  <dc:creator>SEC</dc:creator>
  <dc:description/>
  <dc:language>en-US</dc:language>
  <cp:lastModifiedBy>m pl</cp:lastModifiedBy>
  <dcterms:modified xsi:type="dcterms:W3CDTF">2013-07-28T10:48:27Z</dcterms:modified>
  <cp:revision>17</cp:revision>
  <dc:subject/>
  <dc:title>슬라이드 1</dc:title>
</cp:coreProperties>
</file>